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308-D9CB-437D-9F16-02DB4DFD2F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F810-87A6-4F7A-A758-89CC0B70E2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A99-3144-44D1-9F17-F7E7C8BD12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shows a heap broken up into pages.  Arrows represent pointers with dashed arrows representing quasi-poin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move objects referenced by a quasi-pointer so those pages are treated via mark-sweep.  The other pages are treated via copying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 collected objects are copied onto other free pages that will form the new to-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gorithm scales because as more type information is available ( there are fewer untyped objects) the algorithm approaches a copying collect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ess type information is available it is essentially a mark-sweep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CC is truly a hybrid mark-sweep/copying coll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 why it maybe be good in an accurate setting where very little type information is mi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implementation heavily favors the copying collector, and implements a very poor mark-sweep strate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: So how does it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2EE-277D-46C5-BF3D-62DB73B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3C2-F16E-4B88-91D0-A12ECABA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320-BE03-45E6-BE63-9EDA325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2D1-CE55-4A8A-B92E-2AE7B94C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721-EF09-47C9-9908-C41A951A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3EC-6C3F-4731-BC54-B06B3CFA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0DA-206C-4F23-A21D-3578FB8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D23-01E3-4998-BDE9-3C6326D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1B1-480F-4D2C-B415-007E32D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4D9-43DD-43DE-B0B5-63C8F8C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D38-0B6F-4DF8-ADF4-2487418D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F1C-483F-456B-9D2F-00AB9878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1447920"/>
            <a:ext cx="91425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68580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cccccc"/>
              </a:gs>
              <a:gs pos="100000">
                <a:srgbClr val="8181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3560" y="4525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799"/>
              </a:spcBef>
              <a:buClr>
                <a:srgbClr val="000000"/>
              </a:buClr>
              <a:buFont typeface="Times New Roman (Hebrew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3200" spc="-1" strike="noStrike">
                <a:solidFill>
                  <a:srgbClr val="000000"/>
                </a:solidFill>
                <a:latin typeface="Times New Roman (Hebrew)"/>
              </a:defRPr>
            </a:lvl1pPr>
          </a:lstStyle>
          <a:p>
            <a:pPr>
              <a:spcBef>
                <a:spcPts val="799"/>
              </a:spcBef>
              <a:buClr>
                <a:srgbClr val="000000"/>
              </a:buClr>
              <a:buFont typeface="Times New Roman (Hebrew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F307-BB89-4FAF-89A0-D2B2EF96A587}" type="slidenum">
              <a:rPr b="0" lang="he-IL" sz="3200" spc="-1" strike="noStrike">
                <a:solidFill>
                  <a:srgbClr val="000000"/>
                </a:solidFill>
                <a:latin typeface="Times New Roman (Hebrew)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054"/>
          <p:cNvSpPr/>
          <p:nvPr/>
        </p:nvSpPr>
        <p:spPr>
          <a:xfrm>
            <a:off x="762120" y="15238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(Hebrew)"/>
              </a:rPr>
              <a:t>UniProcessor Garbage Collection Techniques</a:t>
            </a:r>
            <a:endParaRPr b="0" lang="en-US" sz="4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79" name="Rectangle 2055"/>
          <p:cNvSpPr/>
          <p:nvPr/>
        </p:nvSpPr>
        <p:spPr>
          <a:xfrm>
            <a:off x="1066680" y="3505320"/>
            <a:ext cx="69343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(Hebrew)"/>
              </a:rPr>
              <a:t>Paul R. Wilson</a:t>
            </a:r>
            <a:endParaRPr b="0" lang="en-US" sz="28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(Hebrew)"/>
              </a:rPr>
              <a:t>University of Texas</a:t>
            </a:r>
            <a:endParaRPr b="0" lang="en-US" sz="2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80" name="Line 2056"/>
          <p:cNvSpPr/>
          <p:nvPr/>
        </p:nvSpPr>
        <p:spPr>
          <a:xfrm>
            <a:off x="533520" y="320040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81" name="Text Box 2062"/>
          <p:cNvSpPr/>
          <p:nvPr/>
        </p:nvSpPr>
        <p:spPr>
          <a:xfrm>
            <a:off x="2286000" y="52578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82" name="Text Box 2071"/>
          <p:cNvSpPr/>
          <p:nvPr/>
        </p:nvSpPr>
        <p:spPr>
          <a:xfrm>
            <a:off x="2286000" y="5029200"/>
            <a:ext cx="4648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Presented By Naomi Sapir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Tel-Aviv University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 approximation of true liven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cost proportional to the number of objects allocated in run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real pointer points to another ob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hort lived stack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distributed systems combined with other techniq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Mark-Sweep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57200" y="2541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828800" y="2541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16257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00400" y="16257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572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8288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2004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572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8288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572000" y="2541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5943600" y="2541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7315200" y="2541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572000" y="16257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315200" y="16257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59436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73152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45720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59436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73152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609480" y="558720"/>
            <a:ext cx="1067040" cy="228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(Hebrew)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724280" y="360684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3352680" y="246384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3352680" y="185436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3352680" y="55872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609480" y="4826160"/>
            <a:ext cx="1067040" cy="228600"/>
          </a:xfrm>
          <a:prstGeom prst="rect">
            <a:avLst/>
          </a:prstGeom>
          <a:noFill/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3352680" y="474984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3352680" y="1244520"/>
            <a:ext cx="1067040" cy="228600"/>
          </a:xfrm>
          <a:prstGeom prst="rect">
            <a:avLst/>
          </a:prstGeom>
          <a:noFill/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4724280" y="558720"/>
            <a:ext cx="1067040" cy="228600"/>
          </a:xfrm>
          <a:prstGeom prst="rect">
            <a:avLst/>
          </a:prstGeom>
          <a:noFill/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7467480" y="360684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09480" y="2235240"/>
            <a:ext cx="1067040" cy="228600"/>
          </a:xfrm>
          <a:prstGeom prst="rect">
            <a:avLst/>
          </a:prstGeom>
          <a:noFill/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1981080" y="345456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cxnSp>
        <p:nvCxnSpPr>
          <p:cNvPr id="236" name="AutoShape 33"/>
          <p:cNvCxnSpPr>
            <a:stCxn id="224" idx="2"/>
          </p:cNvCxnSpPr>
          <p:nvPr/>
        </p:nvCxnSpPr>
        <p:spPr>
          <a:xfrm>
            <a:off x="1143000" y="802800"/>
            <a:ext cx="1372320" cy="1035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34"/>
          <p:cNvCxnSpPr>
            <a:stCxn id="224" idx="3"/>
            <a:endCxn id="228" idx="1"/>
          </p:cNvCxnSpPr>
          <p:nvPr/>
        </p:nvCxnSpPr>
        <p:spPr>
          <a:xfrm>
            <a:off x="1692360" y="672840"/>
            <a:ext cx="1645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35"/>
          <p:cNvCxnSpPr>
            <a:stCxn id="228" idx="3"/>
          </p:cNvCxnSpPr>
          <p:nvPr/>
        </p:nvCxnSpPr>
        <p:spPr>
          <a:xfrm>
            <a:off x="4435560" y="673200"/>
            <a:ext cx="1645200" cy="157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36"/>
          <p:cNvCxnSpPr>
            <a:stCxn id="226" idx="0"/>
            <a:endCxn id="227" idx="2"/>
          </p:cNvCxnSpPr>
          <p:nvPr/>
        </p:nvCxnSpPr>
        <p:spPr>
          <a:xfrm flipV="1">
            <a:off x="3885840" y="2098440"/>
            <a:ext cx="1080" cy="349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37"/>
          <p:cNvCxnSpPr>
            <a:stCxn id="235" idx="2"/>
            <a:endCxn id="230" idx="0"/>
          </p:cNvCxnSpPr>
          <p:nvPr/>
        </p:nvCxnSpPr>
        <p:spPr>
          <a:xfrm>
            <a:off x="2514600" y="3698640"/>
            <a:ext cx="1372320" cy="1035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8"/>
          <p:cNvCxnSpPr>
            <a:stCxn id="235" idx="3"/>
            <a:endCxn id="225" idx="1"/>
          </p:cNvCxnSpPr>
          <p:nvPr/>
        </p:nvCxnSpPr>
        <p:spPr>
          <a:xfrm>
            <a:off x="3063960" y="3568320"/>
            <a:ext cx="16452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Text Box 39"/>
          <p:cNvSpPr/>
          <p:nvPr/>
        </p:nvSpPr>
        <p:spPr>
          <a:xfrm>
            <a:off x="7513200" y="293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3200400" y="22860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4572000" y="29973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3200400" y="43689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5943600" y="1625760"/>
            <a:ext cx="1371600" cy="1371600"/>
          </a:xfrm>
          <a:prstGeom prst="rect">
            <a:avLst/>
          </a:prstGeom>
          <a:noFill/>
          <a:ln w="316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7" name="Text Box 54"/>
          <p:cNvSpPr/>
          <p:nvPr/>
        </p:nvSpPr>
        <p:spPr>
          <a:xfrm>
            <a:off x="807480" y="47815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(Hebrew)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48" name="Rectangle 58"/>
          <p:cNvSpPr/>
          <p:nvPr/>
        </p:nvSpPr>
        <p:spPr>
          <a:xfrm>
            <a:off x="1981080" y="187308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cxnSp>
        <p:nvCxnSpPr>
          <p:cNvPr id="249" name="AutoShape 59"/>
          <p:cNvCxnSpPr>
            <a:stCxn id="248" idx="2"/>
            <a:endCxn id="235" idx="0"/>
          </p:cNvCxnSpPr>
          <p:nvPr/>
        </p:nvCxnSpPr>
        <p:spPr>
          <a:xfrm>
            <a:off x="2514240" y="2117880"/>
            <a:ext cx="108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60"/>
          <p:cNvCxnSpPr>
            <a:stCxn id="248" idx="3"/>
          </p:cNvCxnSpPr>
          <p:nvPr/>
        </p:nvCxnSpPr>
        <p:spPr>
          <a:xfrm>
            <a:off x="3063600" y="1987560"/>
            <a:ext cx="25308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62"/>
          <p:cNvSpPr/>
          <p:nvPr/>
        </p:nvSpPr>
        <p:spPr>
          <a:xfrm>
            <a:off x="6095880" y="2133720"/>
            <a:ext cx="1067040" cy="228600"/>
          </a:xfrm>
          <a:prstGeom prst="rect">
            <a:avLst/>
          </a:prstGeom>
          <a:solidFill>
            <a:srgbClr val="868686"/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cxnSp>
        <p:nvCxnSpPr>
          <p:cNvPr id="252" name="AutoShape 63"/>
          <p:cNvCxnSpPr>
            <a:stCxn id="251" idx="2"/>
            <a:endCxn id="233" idx="0"/>
          </p:cNvCxnSpPr>
          <p:nvPr/>
        </p:nvCxnSpPr>
        <p:spPr>
          <a:xfrm>
            <a:off x="6629400" y="2377800"/>
            <a:ext cx="1372320" cy="121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Rectangle 64"/>
          <p:cNvSpPr/>
          <p:nvPr/>
        </p:nvSpPr>
        <p:spPr>
          <a:xfrm>
            <a:off x="2895480" y="6095880"/>
            <a:ext cx="304920" cy="304920"/>
          </a:xfrm>
          <a:prstGeom prst="rect">
            <a:avLst/>
          </a:prstGeom>
          <a:solidFill>
            <a:srgbClr val="8686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254" name="Text Box 66"/>
          <p:cNvSpPr/>
          <p:nvPr/>
        </p:nvSpPr>
        <p:spPr>
          <a:xfrm>
            <a:off x="3276720" y="6019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swept</a:t>
            </a:r>
            <a:endParaRPr b="0" lang="en-US" sz="20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- difficult to allocate large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 of reference: interleave of different ages causes many page swa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: proportional to the heap siz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Mark Compact Collection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Compact after mark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1773360"/>
            <a:ext cx="723888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ragment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loca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Several passes over the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, compute new location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pointers and move the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Copying 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Before 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862280"/>
          <a:ext cx="769608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2280"/>
                    <a:ext cx="769608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After 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457200" y="1981080"/>
          <a:ext cx="8229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Cheney breath-first copy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67" name="Object 1027"/>
          <p:cNvGraphicFramePr/>
          <p:nvPr/>
        </p:nvGraphicFramePr>
        <p:xfrm>
          <a:off x="0" y="2419200"/>
          <a:ext cx="4876920" cy="23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19200"/>
                    <a:ext cx="4876920" cy="23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031"/>
          <p:cNvGraphicFramePr/>
          <p:nvPr/>
        </p:nvGraphicFramePr>
        <p:xfrm>
          <a:off x="5105520" y="1752480"/>
          <a:ext cx="4038480" cy="455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752480"/>
                    <a:ext cx="4038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Overall Goal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garbage collectors for uniprocess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basic issues in the fie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Efficiency of Copying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the live data during coll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of colle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creases collection effor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crea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that die before GC needn’t be copi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Basic Techniques - Conclu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 systems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collectors use a separ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place collectors (mark-sweep, treadmill) are conservative in respect to untyped objects,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or 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point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Problems with basic GC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arge memory, causes excessive pag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ying collection might cause pag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 in cache memory is import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, not usable for real time appl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Incremental Tracing Collect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cremental Tracing Collector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tracing for garbage det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ing program may mutate the graph of reachable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eep track of chan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oating garb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Tricolor Mark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143000" y="1981080"/>
          <a:ext cx="708660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0866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4"/>
          <p:cNvSpPr/>
          <p:nvPr/>
        </p:nvSpPr>
        <p:spPr>
          <a:xfrm>
            <a:off x="1066680" y="57913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Before                        After a violation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D is not  reachabl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Incremental Approache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26840" y="1557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es the collector with the muta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 barr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tator access a pointer to a white object, colors the object gre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rite barrier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rect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ps the write of a white pointer into a black obj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ps the death of a pointer before it is reached by G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ker’s Incremental Copy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9047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known real-time garbage  collec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list(tospace), Live list (fromspace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: two pointers (next,prev) and a color (for the set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llocation: copying in Cheney fash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arri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ker’s Incremental Copying (cont’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olor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Blac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d area in tospa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pied but not scann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nreached objects in fromspa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can-pointer on unscanned area of tospace, and move referred-to objects from fromspace.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ker’s Incremental Copying (cont’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: Scanned objects in tospace(black) cannot point to objects in fromspace(white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tator tries to access a  pointer from the fromspace (white), the referent is copied into the tospace (grey) before the acc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new objects during GC is done in tospace, they are live - bla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programm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claimed memory leads to slow memory lea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aiming too soon may cause unpredictable resul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should be built into a language implementa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Baker’s Incremental Copying implementa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copy is tied to the rate of runtime alloc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arrier: compiled in software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by hardware checks and/or microcode routines (Lisp Machin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20% time overhea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Treadmill (Baker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py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y linked lis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The Treadmill (cont’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1371600" y="1752480"/>
          <a:ext cx="5286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5286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4"/>
          <p:cNvSpPr/>
          <p:nvPr/>
        </p:nvSpPr>
        <p:spPr>
          <a:xfrm>
            <a:off x="304920" y="12193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</a:rPr>
              <a:t>During allocation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The Treadmill Conservatism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objects are marked live, but might die before the collection fini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existing object marked live, might die after being rea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85800" y="43434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mutator destroys all the grey objects that point to a white object, although the white object wi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be reach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he collector, its memory will be reclaimed.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Snapshot-at-Beginning </a:t>
            </a: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Write-Barrier (Yuasa)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a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read barrier, as heap writes are less common then heap rea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ph of reachable object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beginn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re accessed by the GC during collection (saves overwritten value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Bake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inters retained, no free during G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Tricolor Mark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307" name="Object 1024"/>
          <p:cNvGraphicFramePr/>
          <p:nvPr/>
        </p:nvGraphicFramePr>
        <p:xfrm>
          <a:off x="1143000" y="1981080"/>
          <a:ext cx="708660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0866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4"/>
          <p:cNvSpPr/>
          <p:nvPr/>
        </p:nvSpPr>
        <p:spPr>
          <a:xfrm>
            <a:off x="10666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5638680" y="6095880"/>
            <a:ext cx="24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(Hebrew)"/>
              </a:rPr>
              <a:t>D is reachable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cremental Update </a:t>
            </a: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Write-Barrier(Dijkstra)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724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ally retain live objects at the end of G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that die during GC and before reached by GC, may be reclaim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 pointer that escapes into an already reached object (blac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hit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gr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Incremental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Write-Barrier(Dijkstra) cont’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bjects are alloc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ort lived objects will not be traversed early, but will be reclaimed quickly (advantage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mparison of Incremental GC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316" name="Object 7"/>
          <p:cNvGraphicFramePr/>
          <p:nvPr/>
        </p:nvGraphicFramePr>
        <p:xfrm>
          <a:off x="228600" y="2819520"/>
          <a:ext cx="8686800" cy="28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86868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Generational Garbage Coll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(copying)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Two Phase Abstra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live objects from garbage by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 s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rk swe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p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aim Garbage stor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3"/>
          <p:cNvGraphicFramePr/>
          <p:nvPr/>
        </p:nvGraphicFramePr>
        <p:xfrm>
          <a:off x="1585800" y="228600"/>
          <a:ext cx="60343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228600"/>
                    <a:ext cx="60343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4"/>
          <p:cNvSpPr/>
          <p:nvPr/>
        </p:nvSpPr>
        <p:spPr>
          <a:xfrm>
            <a:off x="0" y="533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 (Hebrew)"/>
              </a:rPr>
              <a:t>Before GC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Object 2"/>
          <p:cNvGraphicFramePr/>
          <p:nvPr/>
        </p:nvGraphicFramePr>
        <p:xfrm>
          <a:off x="2057400" y="228600"/>
          <a:ext cx="6629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6629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 Box 3"/>
          <p:cNvSpPr/>
          <p:nvPr/>
        </p:nvSpPr>
        <p:spPr>
          <a:xfrm>
            <a:off x="22860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 (Hebrew)"/>
              </a:rPr>
              <a:t>After GC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ational Garbage Collection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3504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bjects are allocated in the New Ge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ull, New Gen only is scavenged, then old objects are copied to the Old Ge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pointer Old G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w Gen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ot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90720" y="18288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(Hebrew)"/>
              </a:rPr>
              <a:t>Does not copy all live data at a collection.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(Hebrew)"/>
              </a:rPr>
              <a:t>Does not copy old objects repeatedly.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ational Garbage Collection Cont’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y Coll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pointers to moved objects are upd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ve true l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all pointers Old G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w Gen are live, they will float until the Old Gen will be scaveng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Generational Garbage Collection Cont’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48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generations are usually smaller then older, so scanning them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loca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of intergenerational pointers is not tied to the rate of object creation, but still might slow the progr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430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al techniques reduce cost as objects tend to die 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al techniques with write barrier can support incremental update coll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udied several kinds of G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 characteristics of G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factors of cost (locality effect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current resear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Root Set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variables in the activation sta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85800" y="38862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ve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ny object reached from the Root Set.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Garbage?</a:t>
            </a:r>
            <a:endParaRPr b="0" lang="en-US" sz="32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 Condensed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5"/>
          <p:cNvGraphicFramePr/>
          <p:nvPr/>
        </p:nvGraphicFramePr>
        <p:xfrm>
          <a:off x="826920" y="1297080"/>
          <a:ext cx="792504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97080"/>
                    <a:ext cx="792504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914400" y="609480"/>
          <a:ext cx="7772400" cy="57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772400" cy="57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w Cen MT Condensed"/>
              </a:rPr>
              <a:t>Unreclaimable Cycle</a:t>
            </a:r>
            <a:endParaRPr b="0" lang="en-US" sz="4400" spc="-1" strike="noStrike">
              <a:solidFill>
                <a:srgbClr val="000000"/>
              </a:solidFill>
              <a:latin typeface="Tw Cen MT Condensed"/>
            </a:endParaRPr>
          </a:p>
        </p:txBody>
      </p:sp>
      <p:graphicFrame>
        <p:nvGraphicFramePr>
          <p:cNvPr id="198" name="Object 1029"/>
          <p:cNvGraphicFramePr/>
          <p:nvPr/>
        </p:nvGraphicFramePr>
        <p:xfrm>
          <a:off x="990720" y="1752480"/>
          <a:ext cx="7086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86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20:13:04Z</dcterms:created>
  <dc:creator>Preffered customer</dc:creator>
  <dc:description/>
  <dc:language>en-US</dc:language>
  <cp:lastModifiedBy>Giuseppe Attardi</cp:lastModifiedBy>
  <dcterms:modified xsi:type="dcterms:W3CDTF">2013-10-14T14:15:58Z</dcterms:modified>
  <cp:revision>114</cp:revision>
  <dc:subject/>
  <dc:title>No Slide Title</dc:title>
</cp:coreProperties>
</file>